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C79-6F83-431E-9C98-EC9FE766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711-284A-4454-B304-2BF87CF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67D7-1558-4999-AF22-5CAD8695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60E-4D4B-4C50-B8AB-B2828E9F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8755-B86B-4BFE-B18C-15C4597C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4D0-CD9E-4859-B03C-C4C90DD9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E83-2862-4E4A-BDE9-D4BC1BF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59D9-423C-4DAD-B83D-D98A2861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05C-AF0D-4818-A656-E22A980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91F-3E7A-4B6C-8D5C-B501379E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6EC5-99E6-4994-9948-E497C861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B12-7207-4EDB-9E95-702CD0C5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A16-B938-48F5-8A04-906E58F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AAED-F315-4828-8BFD-88DD0E4D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1FE-6CB5-4319-8355-705B9E83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6AB-6F80-460C-81DD-3F07AD68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CF15-A23E-4BCA-A968-306F2A68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08E-4777-4DA9-BBD8-A512659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17C-1905-4629-A1F9-EEAA953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873-A7AF-404E-A7BC-E9E4B14F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C7F-2BCB-4117-AD19-20545E0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189-9772-4492-90EC-DC34F0E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59A-94D0-4225-9D25-B4B4160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E57-07B3-4F7C-9BE7-BB059B5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504-F000-45D7-AC86-12ABD4BDE4B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790-EBB4-4213-A8B6-4D971A18D8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CC86-7FEA-4C3B-B85C-CC4AF05FAD1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5D38-0BFD-43A4-A4D7-811C11791D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dn.microsoft.com/netframewor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Building C# Applic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98FA-1368-4EBE-AA32-E299D9E06E2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47C-1972-4243-A2E7-9D6E06556C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304920"/>
            <a:ext cx="86868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ompile TestApp.cs into a console application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estApp.exe, change to the directory containing your source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and enter the following command se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arget:ex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 C# compiler flags support an abbreviated version, su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/t rather than /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:ex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the /t:exe flag is the default output used by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, you could also compile TestApp.cs simply by typ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sage of /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t:exe  /out:&lt;*.exe&gt;  &lt;*.cs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t:library /out:&lt;*.dll&gt;  &lt;*.cs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5C31-D3B8-424B-8FC1-16DCEBC726F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956-66C6-45EB-B0F1-58701BE318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iling Multiple Source Files with csc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8557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iously we have created a single source file having *.cs.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metimes most of the projects are composed of multiple *.cs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n additional class contained in a 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named HelloMsg.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8600" y="279396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Speak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E91-ABD9-4188-9A80-A10EEDE43CD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5D0A-046D-4239-8F02-E27DDDB757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28600" y="21924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Message h = new HelloMess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Spea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" y="411480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 compile your C# files by listing each input file explici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r:System.Windows.Forms.dll T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stapp.cs Hellomsg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r:System.Windows.Forms.dl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CC0A-6171-4024-AE88-7A45894A0A5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93CC-D19E-45CB-9EDE-20C9757661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Multiple External Assemb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" y="83808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reference numerous external assemblies using csc.ex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y list each assembly using a semicolon-delimited l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:System.Windows.Forms.dll;System.Drawing.dll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8738-3AF4-4B7D-8A4A-BA8E5A85674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454-DA9D-46AD-9F41-DFCC62618D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87480"/>
            <a:ext cx="8686800" cy="703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Csc.exe Respons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8600" y="1066680"/>
            <a:ext cx="8686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 a complex C# application at the command prompt is f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pain as you type in the flags that specify numerous referenc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ies and *.cs input fi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lessen the typing burden, the C# compiler honors th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ponse fi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response files contain all the instructions to be used dur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ation of your current build. By convention, these files en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*.rsp (response)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9F28-C8D6-4749-8036-456FC973FD7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B25-C8DC-4D4D-9E9B-AD41EC8659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52280" y="228600"/>
            <a:ext cx="88394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you have created a response file named TestApp.rs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contains the following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This is the response file for the TestApp.exe ap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External assembly re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r:System.Windows.Form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output and files to compile (using wildcard synta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target:exe /out:&lt;filename&gt;.exe &lt;filename&gt;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, assuming this file is saved in the same directory as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urce code files to be compiled, you are able to build your ent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 as follows: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@TestApp.r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need arise, you are also able to specify multiple *.rsp files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put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@FirstFile.rsp @SecondFile.rsp @ThirdFile.r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7A69-E5A4-45EE-A6FC-CDD82157975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2F48-462D-483E-985E-AF86DA8D0A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fault Response File (csc.r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28600" y="838080"/>
            <a:ext cx="8686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compiler has an associated default response file (csc.rsp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which is located in the same directory as csc.exe itself (e.g.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:\Windows\Microsoft.NET\Framework\v2.0.50215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open this file using Notepad, you will find that numer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assemblies have already been specified using the /r: fl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presence of the default response file, the current TestApp.ex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 could be successfully compiled using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mand set (as System.Windows.Forms.dll is referenced with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sc.rsp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out:TestApp.exe 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1FFA-DB0E-414A-A7B5-FFB1D99F462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A9F4-169F-4F7F-8552-F4AF928217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ng Bug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8600" y="762120"/>
            <a:ext cx="8763120" cy="32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w C# compiler provides a helpful flag named /bugrepor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ag allows you to specify a file that will contain vari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tistics regarding your current build; including any erro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countered during the compilation proc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/bugreport:bugs.tx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specify /bugreport, you will be prompted to en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rective information for the possible errors, will be saved in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specif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D7E8-C37E-4726-B066-D246701FA42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FF7-7410-4D5B-9247-8317D76FFE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ing C# Compile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28600" y="106668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compiler has many other flags that can be used to contr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w the resulting .NET assembly is to be gener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., flags exist to build XML source code documentation fil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reate multifile assemblies, and embed .NET resource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9C05-76F3-4AF8-A48D-5C6083FB284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D00-9005-47DB-9B3E-5474AA7C01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8686800" cy="5854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ECA-DF67-4488-BC43-92CA9B8EB3E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711-27B5-40BF-914D-C8F9878AFE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ing the .NET Framework 2.0 SD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704880"/>
            <a:ext cx="868680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developing the .NET application using c#, the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ep is to install the freely downloadable .NET Framework 2.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ftware Development Kit (SD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plans to use Visual C# 2005 Express, or Vis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udio 2005, there is no need to manually download or inst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Framework 2.0 SD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are not developing with VS 2005 or Visual C#  200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ress, navigate to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msdn.microsoft.com/netframe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search for “.NET Framework 2.0 SDK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completing the installation , development  machine will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figured with the necessary .NET infrastructure, and also n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 numerous development tools,  a very robust help system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ple code, and tutorials, as well as  various white pa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102B-6F59-419D-AFD0-4B8406E9D26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B50-490B-44CE-959A-2CFA83BD88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5748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272-0584-4851-9C36-562C6829F85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894-3B53-42D8-B92B-6020A121D8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2531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37FB-0D0E-45D0-A80E-AEE2825C2B7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3AF9-2BAF-4152-9591-2E4777629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87480"/>
            <a:ext cx="868680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mand-Line Debugger (cordbg.ex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9907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Framework 2.0 SDK comes with a command-line debug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cordbg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ool provides the options that allows to debug your 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17440" y="2590920"/>
            <a:ext cx="869796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1174680" y="5791320"/>
            <a:ext cx="67964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Handful of Usefu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dbg.ex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mand-Line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4CC-050B-43DC-98AC-7B4CEA3BB8F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856-5FC5-4FAB-95FE-A43174C924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76320"/>
            <a:ext cx="876312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bugging at the Command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143000"/>
            <a:ext cx="861048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you can debug your application using cordbg.exe, the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ep is to generate debugging symbols for your current appl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 specifying the /debug flag of csc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o generate debugging data for TestApp.exe, ent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command se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@testapp.rsp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/deb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generates a new file named (in this case) testapp.pd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you have generated a *.pdb file, open a session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dbg.exe by specifying your .NET assembly as a command-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rgumen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rdbg.exe testapp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579-57BE-4F22-97C5-8D9D6FA1A2F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45D0-FA42-4AC8-8753-62D40488D7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1678680" y="2286000"/>
            <a:ext cx="531216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Using the Visual Studio .NET 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Other Key Aspects of the VS .NET 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 self-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A8F-5B55-4904-AC2B-072B93C526F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28F-DC8C-4B73-854E-40A9A1C01B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"Preprocessor" Dir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28600" y="8380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use of various symbols that allow you to inte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e compilation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re is no separate preprocessing step. Rat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processing directives are processed as part of the lexical analys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hase of the compil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7080" y="2971800"/>
            <a:ext cx="8915400" cy="3244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24E-AC8C-4856-A368-117ADF4B6CE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0842-D6BD-49C8-BDF8-BF31E65221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ying the Code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" y="6858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region and #endregion are most used preprocessor direc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se tags, you are able to specify a block of code tha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 hidden from view and identified by a friendly textual mar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region helps to manage the lengthy *.cs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80880" y="2666880"/>
            <a:ext cx="853452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rocess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Nested types will be examined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region Stuff I don't care ab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MyHelper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tuff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MyHelper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//stuff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end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71E-941F-4215-8641-5AE91781DD0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6BBE-05F1-4835-9F67-8B6603EA5F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A753-F3D8-4EFC-8093-310AEC6A261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54A-B578-4B5A-B893-94C5437CEC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Code Comp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28600" y="6271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if, #elif, #else, #endif allows you to conditionally compile a bloc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code based on the predefined symb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these directives is to include additional code which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d only under debug buil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2362320"/>
            <a:ext cx="5181480" cy="4143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s Process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#if (DEBU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App directory: {0}"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Environment.CurrentDirector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Box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MachineNa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OS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emnt.OS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.NET Version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#end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562720" y="2444760"/>
            <a:ext cx="350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you are check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symbol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BUG. If it is presen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lines wil be compil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the DEBUG symbol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 defined, the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laced between #if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#endif will no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d in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ulting assembly, and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be igno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886A-5858-42FB-8941-78FC8F34868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CE6-B35B-41D8-9730-24EEE0330E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4920" y="228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xt logical question is where exactly is the DEBUG symb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? Well, if you wish to define this symbol on a file by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is, you are able to make use of the #define preprocess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mbol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04920" y="2133720"/>
            <a:ext cx="8534160" cy="435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#define DEBU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s Process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if (DEBU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App directory: 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CurrentDirector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Box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MachineNa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OS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emnt.OS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.NET Version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end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1DA5-C74E-4123-9F97-D496D0FD194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869-3ADF-450C-8161-C6CF742BCE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directories of the .NET Framework 2.0 SDK Installation 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16F-B96F-4D5E-B385-4D70CBB5747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2685-BD08-453C-B8BE-1B23986B16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ing Warnings and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" y="59544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warning and #error preprocessor directives allow you to instr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# compiler to generate a warning or error on the f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that you wish to ensure that when a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mbol (such as DEBUG) is defined in the current project,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 warning is issu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80880" y="2703600"/>
            <a:ext cx="84582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f (DEBU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warning Beware!Debug is defined...configure release bui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ame code as befor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04920" y="5334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next compile you will find your custom warning (or erro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using #error) is displayed in the Output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B7E-4A60-445C-B2FB-5513AFB62F8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697-2DF6-4E97-A31E-D25520A066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ing Lin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8600" y="83808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line directive allows you to alter the compiler’s recognition of 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s during its recording of compilation warnings and err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#line directive allows you to specify the name of a file to du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 anomal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eset default line numbering, you must specify the default t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336840"/>
            <a:ext cx="838224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The warning below will be issued on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et line number to 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ine 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warning "Custom warning on line 3000(for no good reason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Resume default line number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ine defa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A765-05C2-48B3-854C-4B768171C19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173-8A7D-4B08-BE4D-9E1B7FC226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28600" y="1666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esting Aside: The System.Environmen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91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Environment class allows you to obtain a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ails regarding the context of the operating system hosting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application using various static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621-96DD-4045-AA24-8E0AD0C4797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677-540C-417F-B930-DA24DB4475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28600" y="152280"/>
            <a:ext cx="8686800" cy="5447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latformS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OS version currently 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os: {0}",Environment.OSVersio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Director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Directory: {0}",Environment.CurrentDirector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Here are the drives on this b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[] drives = Environment.GetLogicalDrives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=0;i&lt;drives.Length;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Drive {0} : {1}", i, driv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Which version of the .NET platfor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Verion of .NET: {0}",Environment.Versio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A266-C4CA-419B-A0F6-DF544F8CCD5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EEAB-27EF-4287-8D69-AF24079810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10620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# Command-Line Compiler (csc.e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4920" y="838080"/>
            <a:ext cx="85341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a number of techniques you may use to compil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ource co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art from using Visual Studio 2005, you are able to create .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ies using the C#  command-line compiler, csc.exe 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-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harp Comp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 This tool is  included with the .NET Frame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.0 SD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3829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ing the C# Command-Line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357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:\Windows\Microsoft.NET\Framework\v2.0.502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19E1-B6B2-44E6-B5B2-7E6667926CA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1749-B021-40DE-9363-ED1EA4BE46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2860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ing Additional .NET Command-Line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91440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begin to investigate csc.exe, add the following addi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ath variable to the System Variables lis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:\Program Files\Microsoft Visual Studio 8\SDK\v2.0\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ove directory contains additional command-line tools  that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monly used during .NET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F19-1ABA-4FE1-8FA3-210E58EC3A2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744-89B1-401C-9C40-232D654075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ing C# Applications Using csc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990720"/>
            <a:ext cx="86868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development machine recognizes csc.exe, the next goal i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uild a simple single file assembly named TestApp.exe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# command-line compiler and Notepa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you need some  source code. Open Notepad and ent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30988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 simple C# appl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ole.Writ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62C-0AFC-41BA-B51F-860DEEC9A63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505-DB54-4E5F-95C4-B3B8433BD4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Compile &amp; Run…..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4920" y="990720"/>
            <a:ext cx="85341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 name can be saved using the class name of the program itsel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can be saved by any name with .cs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previous program could be saved by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estApp.cs or by Test.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 the TestApp.cs in a fol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the Command prompt and move the folder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ompiling the program type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csc &lt;filename.cs&gt;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t is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csc 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un the program type &lt;filename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t is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2A7-8D32-4F46-9B78-1D613465CD6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8ABD-26EB-4C1E-AAB3-9A54D8D9F7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External Assemb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8600" y="60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examine how to compile an application that makes us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defined in a separate .NET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146700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Ap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" y="5334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you have made use of the MessageBox class, it is us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rom the System.Windows.Forms.dll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:System.Windows.Forms.dll 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stapp1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D8B-3FB3-4B40-947B-E6190434311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78A-6EB3-494D-8A4D-8C2A8D3848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8839080" cy="4191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851120" y="4800600"/>
            <a:ext cx="54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utput-centric Options of the C# Comp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sc /out:&lt;file.exe&gt; &lt;file.c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42:48Z</dcterms:created>
  <dc:creator>Hemanth</dc:creator>
  <dc:description/>
  <dc:language>en-US</dc:language>
  <cp:lastModifiedBy>hemanth</cp:lastModifiedBy>
  <dcterms:modified xsi:type="dcterms:W3CDTF">2014-08-13T18:15:42Z</dcterms:modified>
  <cp:revision>106</cp:revision>
  <dc:subject/>
  <dc:title>Building C# Applications</dc:title>
</cp:coreProperties>
</file>